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F6B5-C7EB-4A02-967F-3B438512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964B-DEA3-4214-8CA7-7F0B851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514-C197-40A9-AC45-9C568477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87C-7147-44EF-9241-556E9A5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75C-FA92-4B80-8425-75919361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BE1-9F46-49D5-8B0A-59552A1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7E9-27FE-4425-BAFD-90FF5F41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E34-8E23-4652-B62F-B049183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74A-0860-4102-B2B1-0368689A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20F-9C11-4BF1-B0CB-26848AA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5F2-9A8E-4E8A-8FCD-1C8E2E5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4B1A-30AB-44E7-B5EC-05DD51A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B948-8ED6-4819-BB3C-12DC88EB1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www.unece.org/stats/trend/register.htm#ch4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41907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EASR conference on survey researc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th -22nd of Ju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, Barcelona) </a:t>
            </a:r>
            <a:br>
              <a:rPr sz="2400"/>
            </a:b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on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of social classification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 should be used t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social classif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2193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systems and contextual difference. Some comments on occupational hierarchies from a South European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as Malouta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tional Centre for Social Research / University of Thessa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286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1: Percentage of employees in the employed population (EU 15 countries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685800"/>
          <a:ext cx="746784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457200" y="6248520"/>
            <a:ext cx="868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UNECE, Trends in Europe and North America. The statistical yearbook of the Economic Commission of Europe 2003, ch. 4 (employment) </a:t>
            </a:r>
            <a:r>
              <a:rPr b="0" lang="en-GB" sz="1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3"/>
              </a:rPr>
              <a:t>http://www.unece.org/stats/trend/register.htm#ch4</a:t>
            </a:r>
            <a:r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38088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2: Employees in the ESS round 1 samples by size of establishment (two first categories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841320"/>
          <a:ext cx="876312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41320"/>
                    <a:ext cx="87631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ESS round 1 database. Version 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572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3: Percentage of employees responsible for supervising other employees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320" y="914400"/>
          <a:ext cx="8915400" cy="463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891540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ESS round 1 database. Version 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4: Percentage of responses on employees’ lack of discretionary power (total percentage of responses 0, 1 and 2 on a 0-10 scale where 0=complete lack of … by ESS round 1 countries) Greece represented by larger symbo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0016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295280"/>
          <a:ext cx="7086600" cy="492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708660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0" y="63244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ESS round 1 database. Version 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049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5: Percentage of responses on employees’ limited possibility to change job or start own business (total percentage of responses 0, 1 and 2 on a 0-10 scale where 0=complete lack of … by ESS round 1 countries) Greece represented by larger symbo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016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1219320"/>
          <a:ext cx="7543800" cy="49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754380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62485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ESS round 1 database. Version 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6: Occupational structure in Athens. Immigrants and Greeks (2001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-684360" y="476280"/>
          <a:ext cx="6120000" cy="378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476280"/>
                    <a:ext cx="61200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067280" y="898560"/>
          <a:ext cx="5076720" cy="2962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898560"/>
                    <a:ext cx="507672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4005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igrants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5053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292640"/>
            <a:ext cx="845820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nior officials and 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fession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ians and associate professio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workers, sales wo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ed agricultural and fishery wo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ft and relative wor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 and machine operators and assemb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killed workers, small trades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3240" y="6342840"/>
            <a:ext cx="336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ESYE-EKKE (2005) Panorama of Greek Census 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5T08:10:22Z</dcterms:created>
  <dc:creator>EKKE</dc:creator>
  <dc:description/>
  <dc:language>en-US</dc:language>
  <cp:lastModifiedBy>iesao</cp:lastModifiedBy>
  <dcterms:modified xsi:type="dcterms:W3CDTF">2005-10-27T12:14:35Z</dcterms:modified>
  <cp:revision>6</cp:revision>
  <dc:subject/>
  <dc:title>First EASR conference on survey research  (18th -22nd of July 2005, Barcelona)   Session on Measurement of social classification:  which variables should be used to define social classification </dc:title>
</cp:coreProperties>
</file>