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1A42-58CB-4903-957B-C8FBB0D62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4B82-386F-43B5-9BDA-4B02BAB2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7B6F-543C-456B-B92B-BA3FADF69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7336-8461-46C4-976A-942EBB275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89DB-E0E0-4822-816E-31CB6E2AC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A2F6-5297-458F-83A3-E53DE4E7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691B-51BE-45E2-AC1B-F810A611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0438-055E-4125-BF1A-34480AF0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9697-2479-4562-80EC-EAAF8F6D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4D21-545A-49F9-83E8-CEA1F39B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C84B-3A0F-47A1-924C-EEB63072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E9BB-798E-4049-9C05-0501D887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53A7-50C1-4BBA-9733-07EAD6F0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DB85-2DA5-40CC-9382-40C926F4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B3AE-8329-425D-9A39-38AB9DE5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C605-E68C-42C7-8D7E-A47A10C9B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982D-2AFC-4FE0-9B8D-C605E1AD1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119C-B44C-43F7-92F1-70672D6E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2820-AEB2-4875-8142-B02A657C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302F-91EA-4FDA-A89D-E7C824AD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42EF-24D7-42F4-AD4B-6E4A00A1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F182-C540-4AA7-AB2F-A96B3767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4B5D-7406-40A6-B212-89349559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2F36-B7B7-4DE4-9F6B-6EF8E7FB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C52B-5169-4B20-9213-4079AF4F315E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52F2-C49B-4569-AC74-49B615E74C5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14600" y="30456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Arial Narrow"/>
              </a:rPr>
              <a:t>ISCO USE IN CYPRUS</a:t>
            </a:r>
            <a:endParaRPr b="1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7B4A-EFC2-45C5-B3DD-A89D0CF72C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 Narrow"/>
              </a:rPr>
              <a:t>SUGGESTION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ivil Serv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remen &amp; supervi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Working proprie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T occup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ublic Service admin.professio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pprent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E101-75F0-458A-8CE8-3B9AD28EB6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 Narrow"/>
              </a:rPr>
              <a:t>ISCO USE IN CYPRU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SCO 58 in the 1960´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SCO 68 in the 1970´s &amp; 1980´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SCO 88 in the 1990´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SCO 88.COM since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52C0-6A8C-412B-A300-CF4A6B5FB6A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 Narrow"/>
              </a:rPr>
              <a:t>CENSUSES &amp; SURVEY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Wages &amp; Salaries (4-digi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LFS (3-digi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ensus of Population (&lt;=4-digi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ensus of Establishments (4digi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S (4-digi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Job Vacancies (1-dig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4289-29BA-4A67-90F0-56E9A2CC032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 Narrow"/>
              </a:rPr>
              <a:t>CRITERIA FOR CODING OF OCCUPATION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Economic activity of enterpr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Earnings of work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Educational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Years of exper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escription of supervisory du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ze &amp; structure of enterpr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A Good description of du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B63A-BC13-4B88-9FB3-347F67B55B1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 Narrow"/>
              </a:rPr>
              <a:t>ISCO68 Vs ISCO88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rom 5 to 4 dig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ombinations, deletions, addi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eletion of fore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eletion of production supervi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ales supervisors = Sales managers or Salesper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Working proprietors in trade &amp; rest. = General managers (13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98E0-739A-4B0E-98D9-FBB0B60856E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 Narrow"/>
              </a:rPr>
              <a:t>MANAGER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hould be linked to size of enterp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f size &lt;10 in special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r small ent. Duties v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EB10-1725-49AD-98C5-13E31D2C9B1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 Narrow"/>
              </a:rPr>
              <a:t>SUPERVISOR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urrently in same occupation as the ones supervi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uties are not the s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upervisors &amp; foremen are the link between manager and wor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E0AC-5CCE-4FD8-9C52-0C3D27B341B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 Narrow"/>
              </a:rPr>
              <a:t>NURSES &amp; TEACHER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SCO88 makes distinction between professional &amp;practical nurses which is satisfa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eachers are classified in 3 levels which is satisfa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1661-E7F9-4C94-A376-21E30AEB6D2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 Narrow"/>
              </a:rPr>
              <a:t>TECHNICIANS</a:t>
            </a:r>
            <a:r>
              <a:rPr b="1" lang="en-GB" sz="4800" spc="-1" strike="noStrike">
                <a:solidFill>
                  <a:srgbClr val="0033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ome difficulties with the level of skill &amp; qualifications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alary data &amp; educational level assist grea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5E2B-2EAA-4054-B32F-27D89D1CF41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esao</cp:lastModifiedBy>
  <dcterms:modified xsi:type="dcterms:W3CDTF">2005-10-27T12:18:01Z</dcterms:modified>
  <cp:revision>3</cp:revision>
  <dc:subject/>
  <dc:title>PowerPoint Presentation</dc:title>
</cp:coreProperties>
</file>