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6B4-D59F-4EB3-A644-99714757A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7DF-36A5-4B44-8EF4-88BBE1D8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753B-5BAA-422B-AB8E-062B6939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360D-C23F-4291-A00A-DBA5DA7E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4B5-A2F6-45FF-A157-559F736C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D023-6C0A-4F40-A8F0-B2B7EB20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F0A-7037-4D99-A551-13B06920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FF2-6DB5-48E0-B23C-F30D4BF8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CD3-516C-45C3-98E3-CF9E4E48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96A-7699-4BF4-A3E6-075F300B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C250-977C-49E7-9AC4-77819FA2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9A5-E08F-4C3D-8269-3DEBFFBC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AA92-FAD7-460C-8F84-9720BE9DA16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lo.org/public/english/bureau/stat/isco/index.htm" TargetMode="External"/><Relationship Id="rId2" Type="http://schemas.openxmlformats.org/officeDocument/2006/relationships/hyperlink" Target="http://www.ilo.org/public/english/bureau/stat/isco/index.ht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549360"/>
            <a:ext cx="820908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eting of the United Nations Expert Group on International Economic and Social Classifications (UNE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ew York, 20 – 24 June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oints drawn from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mmary of discussion on ISCO-88 revision (20 - 21 Ju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d by Peter El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476280"/>
            <a:ext cx="842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cific issues relevant to ESeC (cont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orkers with management responsibilities and working proprie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was agreed that the underlying principles of ISCO should not be changed in this area but that they need to be further cla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ministration professi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ropean countries supported the proposal for the creation of a separate Unit Group for administration professionals quite strongly, but there was little general support for thi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4360" y="907920"/>
            <a:ext cx="79200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CO and ESeC: Where do we need to focus our effor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rgaret Bi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stitute for Employment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versity of Warwi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189000"/>
            <a:ext cx="8964720" cy="66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sues 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inction between ISCO sub-major groups 12 and 13 (corporate managers and general managers/managers of small enterpri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ification of super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inction between ‘professional’ and ‘associate professional and technical’ occupations – perhaps not just an issue for China and Ind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ification of shopkee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ification of public service administrative profession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765000"/>
            <a:ext cx="8064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17th Conference of Labour Statisticians (ICLS) in December 2003 mandated that ISCO-88 should be updated.  Due to the lack of ILO resources, the significant time constraint imposed, and the need for continuity, the review of ISCO was to be 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ly and the structure and fundamental principles underpinning it were not to be chan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0"/>
            <a:ext cx="8713800" cy="70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thodology to data (September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sultant’s rep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bie Budlender (2003), </a:t>
            </a:r>
            <a:r>
              <a:rPr b="0" i="1" lang="en-ZA" sz="2800" spc="-1" strike="noStrike">
                <a:solidFill>
                  <a:srgbClr val="000000"/>
                </a:solidFill>
                <a:latin typeface="Arial"/>
              </a:rPr>
              <a:t>Whither ISCO-88?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Integration Department Working Paper No. 9, International Labour Office, Genev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nai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obtain general guidelines as well as concrete recommendations for the creation of new occupational groups and to improve the descriptions of already existing groups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b foru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et up to further facilitate countries’ participation in the review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lo.org/public/english/bureau/stat/isco/index.ht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Subgrou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SG/ISCO) now formed to assist with the ISCO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47628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Sub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SG/IS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-making body for ISCO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countries’ national statistical organisations have been selected for the ISCO technical subgroup (Canada, UK, Republic of Korea, Australia, Botswana and Urugu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189000"/>
            <a:ext cx="864216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Subgrou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SG/IS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SG/ISCO will work in collaboration with ILO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roposals for the boundaries of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ing proces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collection and review of proposals 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of ISC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draft proposals for updates of ISC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ulings on interpretation of the curr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the draft structure and discuss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s to be submitted to the UNEG 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and Social Classifications, the IL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artite Meeting of Experts on Labo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s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549360"/>
            <a:ext cx="820728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SG/ISCO will report to the UN Expert Group on Economic and Social Classifications (UNEG) for evaluation of their tasks and approval of their findings or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its next meeting, the UN Expert Group on Economic and Social Classifications will determine whether and how the TSG/ISCO will continue to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EG will provide advice to the ILO to assist the development of papers for the ILO Tripartite Meeting of Experts on Labour Statistic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4046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imetable for work of the TSG/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proposals for boundaries of revision for ratification by UNEG – Septembe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raft structure for consideration by UNEG – January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iscussion documents for the ILO Tripartite Meeting of Experts on Labour Statistics – July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549360"/>
            <a:ext cx="8064720" cy="59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id the UN Expert Group say about the Review of IS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s expressed that ISCO88 very out of date – gave examples of occupational areas where new occupations had emerged (finance, media, etc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O replied that no strong support for this notion from consultant’s report or from country questionnaires.  ILO argued that ‘main direct users of ISCO are developing countries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s expressed about the extent of the Review, the work involved and the lack of any long term strategic plan for development and maintenance of IS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Group concluded that furth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more broader discussions were required by a larger number of experts via the web forum and in particular by the TSG/IS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115920"/>
            <a:ext cx="8785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cific issues of relevance to ESeC discussed by the Exper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the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jor Groups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Profession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Technicians and associate profession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hould be merged (China and Indi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rging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nor Group 12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roduction and operations department managers and Sub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jor Group 1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General managers (no consensus on this issu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ervis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 was agreed that the tasks and duties of managers and supervisors need to be further investigated, and that, if required, separate unit groups created for some supervisory occup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9:47:50Z</dcterms:created>
  <dc:creator>iesaj</dc:creator>
  <dc:description/>
  <dc:language>en-US</dc:language>
  <cp:lastModifiedBy>iesao</cp:lastModifiedBy>
  <dcterms:modified xsi:type="dcterms:W3CDTF">2005-10-27T12:17:05Z</dcterms:modified>
  <cp:revision>5</cp:revision>
  <dc:subject/>
  <dc:title>Slide 1</dc:title>
</cp:coreProperties>
</file>