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drmt.lt/mod/klasifikatorius/" TargetMode="External"/><Relationship Id="rId2" Type="http://schemas.openxmlformats.org/officeDocument/2006/relationships/hyperlink" Target="http://www.ldrmt.lt/mod/klasifikatorius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USE OF LITHUANIAN CLASSIFICATION OF OCCUPATION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SCO 88, ISCO 2008 and the Development of the ESeC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gional Meeting, Oslo, 7 June 2005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7320" y="5178600"/>
            <a:ext cx="302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oleta Skamaroci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ief specialist, Employm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tistics Lithu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perviso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Supervisors – persons, whose responsibilities include formal responsibility for supervising other employees, whom he/she supervises directly, sometimes doing some of the work they supervise, excluding quality control and constancy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Supervise the work of at least one person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Members of group with collective responsibility considered as supervisors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Supervisors are classified with the workers they supervise and the work they are doing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8200" y="6308640"/>
            <a:ext cx="26841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80920" y="6354720"/>
            <a:ext cx="275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urs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Nurses are classified in the Major Group 2 and Major Group 3 according to the educational level, duties and tasks performed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Teacher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Teaching occupations revised by the initiative of the Ministry of Education and Science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6381720"/>
            <a:ext cx="30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chnician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Definition of technician: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a person, who uses tools and methods, based on technical principles, helping to enlarge knowledge and experience in a certain area of manufacture or economy;</a:t>
            </a:r>
            <a:endParaRPr b="1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a person, working in a certain technical area;</a:t>
            </a:r>
            <a:endParaRPr b="1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a technical specialist of a medium link.</a:t>
            </a:r>
            <a:endParaRPr b="1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Technicians are classified in the Major group 3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The draft of trilingual explanatory dictionary “Engineers, Technicians and Technologists“ is prepared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81720"/>
            <a:ext cx="2900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THANK YOU FOR YOUR ATTENTION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5120" y="6381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3480" y="6308640"/>
            <a:ext cx="196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6381720"/>
            <a:ext cx="29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thuanian Classification of Occupation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Since 1999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Created on the basis of ISCO 88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The code consists of 6–digits. The first 4–digits correspond to the ISCO 88, the last 2–digits together with the 4 mean a specific occupation in a separate group of the classification of occupations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The Labour Market Training Authority at the Ministry of Social Security and Labour– responsible organization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6381720"/>
            <a:ext cx="309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ponsibilities of Labour Market Training Authority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Management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Regular data updating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Acceptance of occupational registration documents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Providing information for users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Consulting companies, juridical and physical persons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95480" y="632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25280" y="6427800"/>
            <a:ext cx="275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ponsibilities of Labour Market Training Authority (continuation)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Organizing the work performed by experts commission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Giving suggestions and recommendations of professional qualifications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Preparing the occupational descriptions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Collecting information on existing occupations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3840" y="6381720"/>
            <a:ext cx="326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velopment of Lithuanian Classification of Occupation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Internet website of Labour Market Training Authority: </a:t>
            </a:r>
            <a:r>
              <a:rPr b="1" lang="en-US" sz="21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ldrmt.lt/mod/klasifikatorius</a:t>
            </a:r>
            <a:r>
              <a:rPr b="1" lang="en-US" sz="21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/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Publication “Manual on Analysis of Qualifications“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Bilingual explanatory dictionary “Managers“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Trilingual explanatory dictionary “Engineers, Technicians and Technologists“ draft</a:t>
            </a: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25280" y="6427800"/>
            <a:ext cx="275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dating of Lithuanian Classification of Occupation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Health care and pharmacy occupations revision (Ministry of Health)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Revision of Teaching occupations according to the classification of the fields of education (Ministry of Education and Science)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66"/>
                </a:solidFill>
                <a:latin typeface="Arial"/>
              </a:rPr>
              <a:t>A new unit group 2470 – Public service administrative professionals was created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52200" y="6427800"/>
            <a:ext cx="275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ithuanian Classification of Occupation</a:t>
            </a:r>
            <a:r>
              <a:rPr b="1" lang="lt-LT" sz="22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on 1 January 2005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79480" y="6381720"/>
            <a:ext cx="326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301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26920" y="1700280"/>
          <a:ext cx="7848720" cy="4625640"/>
        </p:xfrm>
        <a:graphic>
          <a:graphicData uri="http://schemas.openxmlformats.org/drawingml/2006/table">
            <a:tbl>
              <a:tblPr/>
              <a:tblGrid>
                <a:gridCol w="3841920"/>
                <a:gridCol w="1085760"/>
                <a:gridCol w="1085760"/>
                <a:gridCol w="995400"/>
                <a:gridCol w="839880"/>
              </a:tblGrid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ajor 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–major grou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inor grou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nit grou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ccupa-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 Legislators, senior officials and manag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. Professional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. Technicians and associate professional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. Cler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. Service workers and shop and market sales work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. Skilled agricultural and fishery work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. Craft and related trades work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. Plant and machine operators and assembl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. Elementary occup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 Armed fo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88"/>
                        </a:spcBef>
                        <a:spcAft>
                          <a:spcPts val="4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main users of the Lithuanian Classification of Occupation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spcAft>
                <a:spcPts val="63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Statistics Lithuania:</a:t>
            </a:r>
            <a:endParaRPr b="1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 Labour Force Survey;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 Surveys on Earnings;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 Households Surveys</a:t>
            </a:r>
            <a:r>
              <a:rPr b="1" lang="lt-LT" sz="1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lt-LT" sz="16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opulation Census</a:t>
            </a:r>
            <a:r>
              <a:rPr b="1" lang="lt-LT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spcAft>
                <a:spcPts val="63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Lithuanian Labour Exchange:</a:t>
            </a:r>
            <a:endParaRPr b="1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 Unemployed;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- Job vacancies.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spcAft>
                <a:spcPts val="63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Ministry of Education and Science</a:t>
            </a:r>
            <a:endParaRPr b="1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spcAft>
                <a:spcPts val="63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Other institutions and organizations</a:t>
            </a:r>
            <a:endParaRPr b="1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8200" y="6381720"/>
            <a:ext cx="325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age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711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Additional information – occupation, work performed or position; short description of job performed; main economic activity of workplace; education; employment status in the workplace</a:t>
            </a:r>
            <a:r>
              <a:rPr b="1" lang="en-US" sz="19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Occupations which are primarily management are classified in the major group 1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The small enterprises managers are classified into the sub-major group 13</a:t>
            </a: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spcAft>
                <a:spcPts val="788"/>
              </a:spcAft>
              <a:buClr>
                <a:srgbClr val="003366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Bilingual explanatory dictionary “Managers“</a:t>
            </a:r>
            <a:endParaRPr b="1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5120" y="6381720"/>
            <a:ext cx="318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Jun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Lithuanian Classification of Occup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08:28:58Z</dcterms:created>
  <dc:creator>std</dc:creator>
  <dc:description/>
  <dc:language>en-US</dc:language>
  <cp:lastModifiedBy>iesaf</cp:lastModifiedBy>
  <dcterms:modified xsi:type="dcterms:W3CDTF">2005-06-30T09:28:28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272738</vt:r8>
  </property>
  <property fmtid="{D5CDD505-2E9C-101B-9397-08002B2CF9AE}" pid="3" name="_AuthorEmail">
    <vt:lpwstr>violeta.skamarociene@std.lt</vt:lpwstr>
  </property>
  <property fmtid="{D5CDD505-2E9C-101B-9397-08002B2CF9AE}" pid="4" name="_AuthorEmailDisplayName">
    <vt:lpwstr>Violeta Skamarociene</vt:lpwstr>
  </property>
  <property fmtid="{D5CDD505-2E9C-101B-9397-08002B2CF9AE}" pid="5" name="_EmailSubject">
    <vt:lpwstr>Oslo Meeting Presentations</vt:lpwstr>
  </property>
  <property fmtid="{D5CDD505-2E9C-101B-9397-08002B2CF9AE}" pid="6" name="_PreviousAdHocReviewCycleID">
    <vt:r8>114154129</vt:r8>
  </property>
  <property fmtid="{D5CDD505-2E9C-101B-9397-08002B2CF9AE}" pid="7" name="_ReviewingToolsShownOnce">
    <vt:lpwstr/>
  </property>
</Properties>
</file>