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9FD0-0163-4606-A9BC-33E85D53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F1DF-0C9A-4CA8-857A-E17009C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54C1-6629-4DA6-90C5-7145FD68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C038-8F88-41D8-9823-24F0782E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1840-99C8-4208-9E85-41488C1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992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6800" y="213372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268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8992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6800" y="4203360"/>
            <a:ext cx="27111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B886-2DD0-4592-A570-4E8B5EB6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66E5-4F3F-433C-9507-749187B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1FB2-6C28-4928-935B-EC9B397D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83772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5180-E257-41C9-8E62-13A12AD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0481-F7EE-4639-A0BC-67A477E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20336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4C3F-04F0-4EB0-B4BC-4FAFAD37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2133720"/>
            <a:ext cx="410868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203360"/>
            <a:ext cx="84200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32DA-AFE5-4221-9129-28AA4DBC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33720"/>
            <a:ext cx="84200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3020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19360" indent="-198360">
              <a:spcBef>
                <a:spcPts val="601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19360" indent="-1983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86240" y="6324120"/>
            <a:ext cx="1530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86440" y="6324120"/>
            <a:ext cx="552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DC3F-537A-4853-8732-56DC59BDF319}" type="slidenum">
              <a:rPr b="0" lang="fi-FI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809880" y="63241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8624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343400" y="640044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29320" y="0"/>
            <a:ext cx="3376800" cy="82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602400"/>
            <a:ext cx="4381560" cy="25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62120" y="235080"/>
            <a:ext cx="2806560" cy="52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Finnish </a:t>
            </a:r>
            <a:r>
              <a:rPr b="1" lang="fi-FI" sz="2400" spc="-1" strike="noStrike">
                <a:solidFill>
                  <a:srgbClr val="0000cc"/>
                </a:solidFill>
                <a:latin typeface="Tahoma"/>
              </a:rPr>
              <a:t>AML of 1997 </a:t>
            </a:r>
            <a:r>
              <a:rPr b="0" lang="fi-FI" sz="2400" spc="-1" strike="noStrike">
                <a:solidFill>
                  <a:srgbClr val="0000cc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Standard Classification of Occupation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 based on ISCO-88(COM) since 199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til 1997 based on Nordic stand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lementation of skill level became a political issue and caused difficul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bour market organisations involved in th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w structures salaries and wages will be mirrored in AM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ndencies to equality between men and w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ighly educated, women dominated professional fiel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30200" indent="-1983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re desired to be upgraded in the classif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lassifications and metadata/r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6D17-4271-4341-BE77-6893404334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.6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Skill level</a:t>
            </a:r>
            <a:r>
              <a:rPr b="1" lang="fi-F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0000cc"/>
                </a:solidFill>
                <a:latin typeface="Tahoma"/>
              </a:rPr>
              <a:t>in AML 1997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76400" indent="-17640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kill level was measured utmost carefully by Finnish school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6760" indent="-1749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Outcome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4240" indent="-17640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Professionals was close to that of Technicians and associate professional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4240" indent="-17640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oci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economic structure of households changed (e.g. Household budget surv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6400" indent="-17640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main problem was international comparisons of wage struc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4240" indent="-17640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.g. share of senior officials and manager varies a l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6400" indent="-17640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ional practices differ, to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4240" indent="-17640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.g. classifying policemen differs from Swedish classifi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6400" indent="-17640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cc"/>
                </a:solidFill>
                <a:uFillTx/>
                <a:latin typeface="Tahoma"/>
              </a:rPr>
              <a:t>AML 1997 was to be readjus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3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lassifications and metadata/r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B686-47A3-4BB8-AE9C-DD108AA618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.6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Finnish </a:t>
            </a:r>
            <a:r>
              <a:rPr b="1" lang="fi-FI" sz="2400" spc="-1" strike="noStrike">
                <a:solidFill>
                  <a:srgbClr val="0000cc"/>
                </a:solidFill>
                <a:latin typeface="Tahoma"/>
              </a:rPr>
              <a:t>AML of 200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asses of AML 1997 were split fur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t of split classes were downgraded to lower levels of hierarch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aps of professional fiel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at ISCO intends to measure: qualifications or distribution of work in communit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ducational level in Finland is very hi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-18576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ponsibility is not a clear classification criter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41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lassifications and metadata/r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5E33-9E37-4A79-BE24-75A2C049EB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.6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Tahoma"/>
              </a:rPr>
              <a:t>Responses to ques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nagers and li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rther split in Finnish AML but to make distinction between senior and junior officials is im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riety of managers: how to classify under 12 and 24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upervis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formation is needed for statistics of wage structures but there is no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wever, should not be lumped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Nur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5200" indent="-184320">
              <a:spcBef>
                <a:spcPts val="499"/>
              </a:spcBef>
              <a:buClr>
                <a:srgbClr val="06b81b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breakdown for medical doctors in environmental tasks, etc., could be under 247 (AML does not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cogniz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he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85760" indent="-185760">
              <a:spcBef>
                <a:spcPts val="499"/>
              </a:spcBef>
              <a:buClr>
                <a:srgbClr val="06b81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Technicia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lassifications and metadata/rp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F775-CFDE-4817-9077-1ABAB86E4C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.6.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47:50Z</dcterms:created>
  <dc:creator>Riitta Poukka</dc:creator>
  <dc:description/>
  <dc:language>en-US</dc:language>
  <cp:lastModifiedBy>iesaf</cp:lastModifiedBy>
  <cp:lastPrinted>2005-06-06T13:15:52Z</cp:lastPrinted>
  <dcterms:modified xsi:type="dcterms:W3CDTF">2005-06-30T09:29:44Z</dcterms:modified>
  <cp:revision>21</cp:revision>
  <dc:subject/>
  <dc:title>Seminar/ consultancy on ISCO 88, CN and CPA</dc:title>
</cp:coreProperties>
</file>