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F1D-9113-4D13-BA76-2C9CB8CD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96F-443E-4A83-AE2B-D2C92BC9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BD0-9F42-441D-B176-5859A8A8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954-6F99-4923-9D1D-92465584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BB8-08EA-4E32-854D-9CFB18C2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B99-A060-4FF5-903C-D930F88D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225-751F-49E7-9994-540099BB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CF1-9E09-40A9-AD4D-06529828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C80-107C-479A-B582-B461AB11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D10-D661-48B3-B9E2-C6378BAE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531-E612-4116-A03D-FE0067C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6DD-9EDC-42A9-A40E-9B1E49F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B575-FE7C-465D-9ACA-24A878D8F9B9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DD54-0739-4B0D-8323-6BD70C62C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c9c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9777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839080" y="609480"/>
            <a:ext cx="0" cy="6248520"/>
          </a:xfrm>
          <a:prstGeom prst="line">
            <a:avLst/>
          </a:prstGeom>
          <a:ln w="19080">
            <a:solidFill>
              <a:srgbClr val="c9c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762120" y="6244920"/>
            <a:ext cx="8076960" cy="8640"/>
          </a:xfrm>
          <a:prstGeom prst="line">
            <a:avLst/>
          </a:prstGeom>
          <a:ln w="19080">
            <a:solidFill>
              <a:srgbClr val="c9c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cupational classification of the Republic of Latvi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ga Vanag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our statistics sec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al statistical bureau of Latv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lo, Norwa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June 2005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5FA-889C-4070-90BA-0803EBF581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F9C18-795D-4765-8813-72E50EDA4F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viso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definition for supervisor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in ISCO 2008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(functions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or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, disstribution of working time between job pers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ory responsibilities etc.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"/>
          <p:cNvSpPr/>
          <p:nvPr/>
        </p:nvSpPr>
        <p:spPr>
          <a:xfrm>
            <a:off x="25574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2BD-68D1-41C1-8AB0-95C8C380B3E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A3521-0327-4CC4-B94A-2B2D4FC9C1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tu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in classification for teachers classified  in groups 233,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4 and 331, 332, 333 are  simila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egregating is used educational level for teachers-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233, 234 conform ISCED level 5 and upper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331, 332, 333 conform ISCED level 5 and upper or allowable ISCED 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crete description on mentioned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 attaching educational level in ISCO 2008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"/>
          <p:cNvSpPr/>
          <p:nvPr/>
        </p:nvSpPr>
        <p:spPr>
          <a:xfrm>
            <a:off x="25574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83B-21BD-4767-81C9-2D222AD632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5EA64-12C7-43FA-92A4-5A736BE166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chnicia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classifi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the Republic of Latvia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sons are treated as technician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sons who makes control for process are included in 3rd group of occup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sons who makes only their own direct duties are included in 8th group of occup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25574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499-BC7A-4E3A-83B9-A3FAB6577C8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C68B3-3CDC-49B5-A3E5-C598B41265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"/>
          <p:cNvSpPr/>
          <p:nvPr/>
        </p:nvSpPr>
        <p:spPr>
          <a:xfrm>
            <a:off x="25574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4CD-7D2C-4788-BE16-C3168D9E046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0099F-7F95-4B3C-9FC6-4B37A91618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classific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 Republic of Latv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ased on ISCO-88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elaborated in 199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responsible Ministry of Welfare of the Republic of Latvi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pdating twice a year by Ministry of Welfare of the Republic of Latvi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88F-3C7A-4308-887F-E17725DFF6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2F58A-8E17-4CA4-B1F2-6A0D5E9B47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cupational classification maintain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 International classification (ISCO-88)  framework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s of grouping and classification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s system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7F4-EFA7-4F72-BA19-26A11E44EDE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5D699-BF0A-4AB4-8D7A-43DAF1AFAB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classifi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the Republic of Latv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obligatory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    all institutions of  public and local authorities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    business companies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    other natural and juridical person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0D0-0450-4133-B14C-A4E74673E89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D57F8-E964-4775-9135-F29F56B51F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B of Latvia us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cupational classification in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bour Force survey (LFS) since 1995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usehold budget survey since 1995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ular enterprise Survey on occupations (reference-October of each year) since 1997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earnings survey in 2002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644-0324-4E13-A32B-8B090C5B0C4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2F83F-87AE-4A43-A979-C040CC5C65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of occupations which have some difficulties with coding in Latvia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superviso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technicia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67A-85A7-4B83-903B-BB006F4137A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AFD4D-9D14-4161-B17F-BAC2754B13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nagers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ituati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Latvia  76 % of enterprises are micro (with 1-9 workers).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wners of micro enterprises very often are combining functions of: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terer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lesman and so on (it depends o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posal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will be useful to establish a new group for managers of small enterprises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BB5-1AE5-4D29-ADD2-92B3B4B234D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DD7F4-2AA3-4127-9894-B2168910A1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viso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tu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pecial definition used for supervisors as specific occupational grou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parate information collected on supervisor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 From January 2005 in LFS is included question on supervisor dutie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05D-FC0D-4A66-BD18-ADF80140E0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6BEBB-A458-4659-BECC-E95D0D6B52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 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Latvia o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rter 2005 about 13% of employees mad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visors dutie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"/>
          <p:cNvSpPr/>
          <p:nvPr/>
        </p:nvSpPr>
        <p:spPr>
          <a:xfrm>
            <a:off x="25574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2133720"/>
          <a:ext cx="7239240" cy="38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23924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4EA-E4F3-4DB5-989C-F6F65436D8E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E77CF-049B-417D-A95D-40E78DE34B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1:48:27Z</dcterms:created>
  <dc:creator>csb</dc:creator>
  <dc:description/>
  <dc:language>en-US</dc:language>
  <cp:lastModifiedBy>iesaf</cp:lastModifiedBy>
  <dcterms:modified xsi:type="dcterms:W3CDTF">2005-06-30T09:28:55Z</dcterms:modified>
  <cp:revision>49</cp:revision>
  <dc:subject/>
  <dc:title>PowerPoint Presentation</dc:title>
</cp:coreProperties>
</file>