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A75-9390-4D23-8F94-9BDDF3E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A62-5345-4651-8D63-FA478C97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438-166B-4F8F-8B35-AA1F0C9F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220-752C-4EB9-893C-26F32804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CF4-3499-43A7-B149-7402534D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9C9-5CF9-4924-9F2C-E05117C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2A8-1974-489C-8646-245E575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751-BE39-402B-B25E-89A6DFAE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4E4-682E-402C-9489-B6E5ED1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937-64F1-4CB4-9E6F-F908A8C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560-B203-4012-BC21-15CBD32E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B4B-3CE7-46CC-9217-6F8656B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E98-7B9F-4E9E-87BF-BD944EF8F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Use of ISCO 88 (COM) in Statistics Belg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Lisbon 15 Sept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Astrid Depick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Specific points of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4) Skill level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Skill level is a good proxy for complexity of information and has the advantage that it can be operationalised and taken into account in in the coding process in case of doub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But (in the Belgian context): link between diploma and job becomes weak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Increased importance of LLL and on the job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competencies gain importance over ski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increase in level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Splitting skill levels 2 and 4? increased detail in skill level will make the link between job and diploma even weak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5) Missing in 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Planner (production or logis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Experience with ISCO at NIS Belg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Labour Force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SI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Structure of Earnings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opulation Cens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Household Budg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Vacancy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Other examples in Belgium</a:t>
            </a: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 (not N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General Election Study Belgium (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VRIND (Flemish Regional Indicato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European Social Survey (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urvey on Living Fl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European Values Study (EV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IM (m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urvey on Polit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Surveys Belgium: different cod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Wh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ing done by specialised coders, on the basis of job description given by respondent (registered by interviewer in PAPI): LFS, Population Census, Houshold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ing done by interviewers in CAPI: SILC, LFS (pil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ing done by employers (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Coding schem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ing straight into ISCO: SILC, 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ing into more detailed list, conversion afterwards into ISCO : LFS, Population Census, Household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CAPI co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semantic search tool for job ti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code search in pap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Job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Respondents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ISCO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31840" y="17794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Times New Roman"/>
              </a:rPr>
              <a:t>ESe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228600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413160"/>
            <a:ext cx="5410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Coding implies 4 steps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Job title &amp; job description given by   respo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Interviewers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Registration by intervi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Coding (by interviewer or co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2286000"/>
            <a:ext cx="0" cy="121932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505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2b2b2"/>
                </a:solidFill>
                <a:latin typeface="Times New Roman"/>
              </a:rPr>
              <a:t>ISCO categories recoded into ESe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Sources of b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4 steps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1) Job title &amp; job description gi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ias due to incomplete or incorrect information provided by respo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2) Interviewers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ias due to misinterpretation of interviewer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3) Registration by intervi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ias due to incomplete registration of information given by respo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4) Coding into ISCO or other classification (by interviewer or co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method bias (e.g. lookup system, order ef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ias due to limited knowledge of coding scheme (&amp;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Evaluation of b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1) D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ouble coding in GES95 (KUL), based on job description given by interviewers: intercoder-reliability = 1/3 =&gt; different codes assigned in 66% of all cases !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2) Comparison between percentages ISCO categories in LFS versus 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LFS: expert 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SES: coding by respondent (=employee, usually H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Coding in SES is considered to be better quality (objective, correc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</a:t>
            </a:r>
            <a:r>
              <a:rPr b="0" lang="nl-BE" sz="1600" spc="-1" strike="noStrike" u="sng">
                <a:solidFill>
                  <a:srgbClr val="000000"/>
                </a:solidFill>
                <a:uFillTx/>
                <a:latin typeface="Times New Roman"/>
              </a:rPr>
              <a:t>nclus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- overrepresentation of management positions in LFS (=&gt; overestimation of job level when self repor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- overrepresentation of ‘others’ categories, ‘container’ categories in LFS (=&gt; due to (bad) coding ha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- underrepresentation of categories of ‘complicated’ jobs in LFS (coders are less inclined to pick jobs that they don’t understand very we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Specific points of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1) Definition of Managers &amp; treatment of supervis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Problem of distinguishing between the tw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Is a measurement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There is no generally accepted definition of ‘management level’ (kaders / cadres) in Belgium, is very company speci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There is a link with leadership, but this is not sufficient as a criter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Linguistic difference within Belgiu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in French no distinction between manager and director (=‘directeur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in Dutch the two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Overestimation of management jobs: respondents overestimate themselves + companies are very creative with job titles that indicate responsality (manager, supervisor, responsable, coordinator,…). E.g. floor manager. Link between job title and job content can be very wea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Solution? Not on the theoretical level, but on the measurement lev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Split up job question (job title + job description), use additional questions (e.g. company size, sector) + interviewer/coder trai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Specific points of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2) Nurses and Tea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In Belgium: two different levels of nursing, linked with educ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higher education (not universit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secondary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Teachers in secondary educ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lower grade (12-14 year): higher education (not university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higher grade (15-18 year): university educ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=&gt; some categories of teachers and nurses are misclassified in 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Similar problem with accountants in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3) Technic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large variation in job titles (&amp; job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- coding difficulties (large frequencies in ‘other’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5:27:21Z</dcterms:created>
  <dc:creator>astrid.depickere</dc:creator>
  <dc:description/>
  <dc:language>en-US</dc:language>
  <cp:lastModifiedBy>iesao</cp:lastModifiedBy>
  <dcterms:modified xsi:type="dcterms:W3CDTF">2005-10-13T15:36:26Z</dcterms:modified>
  <cp:revision>16</cp:revision>
  <dc:subject/>
  <dc:title>Use of ISCO 88 (COM) in Statistics Belgium</dc:title>
</cp:coreProperties>
</file>