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8617-06CC-44F7-A79A-2DE61B4B0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458A-7B39-4DD6-964B-6B261FEEB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9372-0676-4E39-9D89-97B77A39C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92DE-D200-49E0-AD58-494D691FD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826A-C07C-4D1D-B043-FDD1E0ADC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85F1-7159-4CE5-A91E-62859DD4D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A1D2-CB3E-4E57-B291-9B7441EA2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4674-466C-4A03-99EA-DD1B9241D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8ED6-5CE4-4867-BDB4-EEB7B4D4B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EA6B-D3D8-4E4F-8EB1-AEBF5706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B146-A68F-4FBB-AA58-EFEBBB60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5129-5794-4FBC-905A-B47F4718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1A228-BEF1-481D-A700-43150059EE0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lo.org/public/english/bureau/stat/isco/index.htm" TargetMode="External"/><Relationship Id="rId2" Type="http://schemas.openxmlformats.org/officeDocument/2006/relationships/hyperlink" Target="http://www.ilo.org/public/english/bureau/stat/isco/index.ht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549360"/>
            <a:ext cx="820908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eting of the United Nations Expert Group on International Economic and Social Classifications (UNE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ew York, 20 – 24 June 200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points drawn from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ummary of discussion on ISCO-88 revision (20 - 21 Ju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d by Peter El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95280" y="476280"/>
            <a:ext cx="8424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pecific issues relevant to ESeC (contd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orkers with management responsibilities and working proprie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was agreed that the underlying principles of ISCO should not be changed in this area but that they need to be further clar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dministration professio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uropean countries supported the proposal for the creation of a separate Unit Group for administration professionals quite strongly, but there was little general support for this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4360" y="907920"/>
            <a:ext cx="7920000" cy="47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CO and ESeC: Where do we need to focus our effort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rgaret Bi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stitute for Employment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niversity of Warwi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79280" y="189000"/>
            <a:ext cx="8964720" cy="66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sues for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stinction between ISCO sub-major groups 12 and 13 (corporate managers and general managers/managers of small enterpris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lassification of super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stinction between ‘professional’ and ‘associate professional and technical’ occupations – perhaps not just an issue for China and Indi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lassification of shopkee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lassification of public service administrative professiona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4360" y="765000"/>
            <a:ext cx="80643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17th Conference of Labour Statisticians (ICLS) in December 2003 mandated that ISCO-88 should be updated.  Due to the lack of ILO resources, the significant time constraint imposed, and the need for continuity, the review of ISCO was to be a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pd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ly and the structure and fundamental principles underpinning it were not to be chang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50920" y="0"/>
            <a:ext cx="8713800" cy="70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ethodology to data (September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sultant’s repor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bbie Budlender (2003), </a:t>
            </a:r>
            <a:r>
              <a:rPr b="0" i="1" lang="en-ZA" sz="2800" spc="-1" strike="noStrike">
                <a:solidFill>
                  <a:srgbClr val="000000"/>
                </a:solidFill>
                <a:latin typeface="Arial"/>
              </a:rPr>
              <a:t>Whither ISCO-88?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cy Integration Department Working Paper No. 9, International Labour Office, Genev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Questionnair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obtain general guidelines as well as concrete recommendations for the creation of new occupational groups and to improve the descriptions of already existing groups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eb foru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et up to further facilitate countries’ participation in the review 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ilo.org/public/english/bureau/stat/isco/index.ht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echnical Subgroup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TSG/ISCO) now formed to assist with the ISCO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68360" y="476280"/>
            <a:ext cx="8136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ical Subgro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TSG/ISC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sion-making body for ISCO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 countries’ national statistical organisations have been selected for the ISCO technical subgroup (Canada, UK, Republic of Korea, Australia, Botswana and Urugu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50920" y="189000"/>
            <a:ext cx="8642160" cy="62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echnical Subgroup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TSG/ISC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SG/ISCO will work in collaboration with ILO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proposals for the boundaries of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ing proces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collection and review of proposals f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of ISC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e on draft proposals for updates of ISC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ulings on interpretation of the curre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C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the draft structure and discuss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s to be submitted to the UNEG 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nomic and Social Classifications, the IL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partite Meeting of Experts on Labou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stics’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68360" y="549360"/>
            <a:ext cx="8207280" cy="61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SG/ISCO will report to the UN Expert Group on Economic and Social Classifications (UNEG) for evaluation of their tasks and approval of their findings or deci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its next meeting, the UN Expert Group on Economic and Social Classifications will determine whether and how the TSG/ISCO will continue to fun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NEG will provide advice to the ILO to assist the development of papers for the ILO Tripartite Meeting of Experts on Labour Statistics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4000" y="404640"/>
            <a:ext cx="8424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imetable for work of the TSG/IS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proposals for boundaries of revision for ratification by UNEG – September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draft structure for consideration by UNEG – January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discussion documents for the ILO Tripartite Meeting of Experts on Labour Statistics – July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9640" y="549360"/>
            <a:ext cx="8064720" cy="59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did the UN Expert Group say about the Review of ISC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rns expressed that ISCO88 very out of date – gave examples of occupational areas where new occupations had emerged (finance, media, etc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O replied that no strong support for this notion from consultant’s report or from country questionnaires.  ILO argued that ‘main direct users of ISCO are developing countries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rns expressed about the extent of the Review, the work involved and the lack of any long term strategic plan for development and maintenance of IS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t Group concluded that furthe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more broader discussions were required by a larger number of experts via the web forum and in particular by the TSG/IS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79280" y="115920"/>
            <a:ext cx="8785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pecific issues of relevance to ESeC discussed by the Expert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ther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jor Groups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 Professional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 Technicians and associate professional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hould be merged (China and Indi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rging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nor Group 12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Production and operations department managers and Sub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jor Group 1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General managers (no consensus on this issu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pervis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t was agreed that the tasks and duties of managers and supervisors need to be further investigated, and that, if required, separate unit groups created for some supervisory occup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4T09:47:50Z</dcterms:created>
  <dc:creator>iesaj</dc:creator>
  <dc:description/>
  <dc:language>en-US</dc:language>
  <cp:lastModifiedBy>iesao</cp:lastModifiedBy>
  <dcterms:modified xsi:type="dcterms:W3CDTF">2005-10-13T15:19:08Z</dcterms:modified>
  <cp:revision>5</cp:revision>
  <dc:subject/>
  <dc:title>Slide 1</dc:title>
</cp:coreProperties>
</file>