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311800" y="0"/>
            <a:ext cx="3832200" cy="74674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30120" y="304920"/>
            <a:ext cx="424080" cy="21081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315200" y="304200"/>
            <a:ext cx="144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Univer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Spanish experience of using ISCO 88</a:t>
            </a:r>
            <a:br>
              <a:rPr sz="4400"/>
            </a:b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Univers"/>
              </a:rPr>
              <a:t>ESeC/ISCO Meeting, 15 September, Lisbon</a:t>
            </a: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 </a:t>
            </a:r>
            <a:br>
              <a:rPr sz="4400"/>
            </a:br>
            <a:br>
              <a:rPr sz="4400"/>
            </a:b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José Manuel Reyes Andrés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Nomenclatures Unit. Department of Method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Nurses and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Therefore, CNO‑94 laid down different unit groups for the occupations relating to three years university education, on the codes 26, 27, 28 and 29, (Group 2½ ).</a:t>
            </a:r>
            <a:r>
              <a:rPr b="0" lang="en-GB" sz="2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Exceptions. P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hysiotherapist, optician, chiropodist, speech therapist and occupational therapist. Which are classified to Major Group 3 under CNO‑94, as they are under ISCO‑88, to achieve better international comparability</a:t>
            </a:r>
            <a:r>
              <a:rPr b="0" lang="en-GB" sz="2800" spc="-1" strike="noStrike">
                <a:solidFill>
                  <a:srgbClr val="000000"/>
                </a:solidFill>
                <a:latin typeface="Univers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Technic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Defin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Técnico: Person who has special knowledge of one science or a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Technicians and the CNO-9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Major Group 2. They have a surna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Univer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Técnico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Univers"/>
              </a:rPr>
              <a:t>superior</a:t>
            </a: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 in ……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Univer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Técnico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Univers"/>
              </a:rPr>
              <a:t>medio</a:t>
            </a: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 in ……….. </a:t>
            </a:r>
            <a:r>
              <a:rPr b="0" lang="en-GB" sz="2200" spc="-1" strike="noStrike">
                <a:solidFill>
                  <a:srgbClr val="000000"/>
                </a:solidFill>
                <a:latin typeface="Univers"/>
                <a:ea typeface="Times New Roman"/>
              </a:rPr>
              <a:t>(Group 2½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Major Group 3. The most of them are here. </a:t>
            </a:r>
            <a:r>
              <a:rPr b="0" lang="en-GB" sz="2500" spc="-1" strike="noStrike">
                <a:solidFill>
                  <a:srgbClr val="000000"/>
                </a:solidFill>
                <a:latin typeface="Univers"/>
              </a:rPr>
              <a:t>Usually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 is the name of a degree in vocational edu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Major Group 4, 5, 6, 7 y 8. Some of them have the name of a degree in vocational education. Others have the popular name of the profes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Technic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Comment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Using the same name that a degree is problematic (confusion between the studies and the occupation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The INEM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(Employment National Institute), 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tried to replace the denominations with terms ambiguous as “técnico”. But it is very difficult because they are very establish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ISCO-88 and CNO-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CNO‑94 is based on ISCO‑88(COM) therefore differ from ISCO‑88 as follows: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Distinction between “</a:t>
            </a:r>
            <a:r>
              <a:rPr b="1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Corporate managers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” and </a:t>
            </a:r>
            <a:r>
              <a:rPr b="1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“General managers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Public administrations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. New headings  in Major Groups 2 and 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“</a:t>
            </a:r>
            <a:r>
              <a:rPr b="1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Subsistence agricultural and fishery workers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”, dropp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ISCO-88 and CNO-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Also CNO-94 differs from ISCO-88 in: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Major Group 2.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 Under ISCO‑88, </a:t>
            </a:r>
            <a:r>
              <a:rPr b="0" i="1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diploma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‑holders and </a:t>
            </a:r>
            <a:r>
              <a:rPr b="0" i="1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licenciatura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‑holders are grouped. CNO-94 distinguish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For various occupations in Major Groups 7 and 8, CNO‑94 distinguishes between </a:t>
            </a:r>
            <a:r>
              <a:rPr b="1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supervisors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 and other workers, classifying them into unit groups within Sub‑Major Groups 70 and 8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ISCO-88 and CNO-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New Sub-Major groups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 were created to have a structure more homogeneous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. Also a new level were created</a:t>
            </a:r>
            <a:r>
              <a:rPr b="0" lang="en-GB" sz="28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3505320"/>
          <a:ext cx="6248520" cy="2738160"/>
        </p:xfrm>
        <a:graphic>
          <a:graphicData uri="http://schemas.openxmlformats.org/drawingml/2006/table">
            <a:tbl>
              <a:tblPr/>
              <a:tblGrid>
                <a:gridCol w="1981440"/>
                <a:gridCol w="1600200"/>
                <a:gridCol w="1371600"/>
                <a:gridCol w="129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ISCO-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CNO-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Ident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1 dig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termedia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1 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2 dig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1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2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3 dig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For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Univers"/>
                        </a:rPr>
                        <a:t>4 dig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Mana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Denominations: Director and Ger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Univers"/>
              </a:rPr>
              <a:t>Director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: person who manages a business, corps part or special establish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Univer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Director general: who has the superior management of a corps, department or busin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Univers"/>
              </a:rPr>
              <a:t>Gerente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: person who manages the deals and carry the sign of a 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Informal definit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We define a “gerente” as an executive in a small enterprise or in part of a large business that can be treated as a small busine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Mana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ISCO-88 transl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12. Corporate Managers – Directores de empre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13. General Managers – Gerentes de empre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CNO-94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Management (Dirección) of enterprise with 10 or more  employe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Management (Gerencia) of enterprise with less than 10 employe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Management (Gerencia) of enterprise without employe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Mana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Comments about 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a satisfactory way to draw the boundary between small and large companies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The use of terms “Director” and ”Gerente” in the CNO-94 does not solve the problem because they have a similar meaning. Also, the  term “gerente” is used with other meaning in some fiel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The rise in service outsourcing invalidates the employee headcount criter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Supervi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We define supervisors as those who oversee the work of others. They can perform duties in common with those oth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If they do not share tasks, they are classified to Major Group 2 or 3 (also in others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If they do, they are classified to the Major Group of the respective occupation practis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They constitute a distinct Unit Group when they are clearly recognisable. Exampl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70. Construction forem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80. Plant team‑leaders.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Univers"/>
              </a:rPr>
              <a:t>Nurses and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Types of studies to obtain the first university deg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Univers"/>
                <a:ea typeface="Times New Roman"/>
              </a:rPr>
              <a:t>Licenciatura.</a:t>
            </a:r>
            <a:r>
              <a:rPr b="0" lang="en-GB" sz="2500" spc="-1" strike="noStrike">
                <a:solidFill>
                  <a:srgbClr val="000000"/>
                </a:solidFill>
                <a:latin typeface="Univers"/>
                <a:ea typeface="Times New Roman"/>
              </a:rPr>
              <a:t> Usually five years. Examples: Law, economy, medicine, history, mathematics, etc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Univers"/>
                <a:ea typeface="Times New Roman"/>
              </a:rPr>
              <a:t>Diplomatura</a:t>
            </a:r>
            <a:r>
              <a:rPr b="0" lang="en-GB" sz="2500" spc="-1" strike="noStrike">
                <a:solidFill>
                  <a:srgbClr val="000000"/>
                </a:solidFill>
                <a:latin typeface="Univers"/>
                <a:ea typeface="Times New Roman"/>
              </a:rPr>
              <a:t>. Three years. Examples of occupation related: </a:t>
            </a:r>
            <a:r>
              <a:rPr b="1" lang="en-GB" sz="2500" spc="-1" strike="noStrike">
                <a:solidFill>
                  <a:srgbClr val="000000"/>
                </a:solidFill>
                <a:latin typeface="Univers"/>
                <a:ea typeface="Times New Roman"/>
              </a:rPr>
              <a:t>teachers</a:t>
            </a:r>
            <a:r>
              <a:rPr b="0" lang="en-GB" sz="2500" spc="-1" strike="noStrike">
                <a:solidFill>
                  <a:srgbClr val="000000"/>
                </a:solidFill>
                <a:latin typeface="Univers"/>
                <a:ea typeface="Times New Roman"/>
              </a:rPr>
              <a:t>, </a:t>
            </a:r>
            <a:r>
              <a:rPr b="1" lang="en-GB" sz="2500" spc="-1" strike="noStrike">
                <a:solidFill>
                  <a:srgbClr val="000000"/>
                </a:solidFill>
                <a:latin typeface="Univers"/>
                <a:ea typeface="Times New Roman"/>
              </a:rPr>
              <a:t>nurses</a:t>
            </a:r>
            <a:r>
              <a:rPr b="0" lang="en-GB" sz="2500" spc="-1" strike="noStrike">
                <a:solidFill>
                  <a:srgbClr val="000000"/>
                </a:solidFill>
                <a:latin typeface="Univers"/>
                <a:ea typeface="Times New Roman"/>
              </a:rPr>
              <a:t>, librarian, physiotherapist, optician.</a:t>
            </a: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Univers"/>
                <a:ea typeface="Times New Roma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Univers"/>
                <a:ea typeface="Times New Roman"/>
              </a:rPr>
              <a:t>Under ISCED‑97, “Diplomatura” is classified to 5A. But the occupations relating to this education type are clearly different</a:t>
            </a:r>
            <a:r>
              <a:rPr b="0" lang="en-GB" sz="2800" spc="-1" strike="noStrike">
                <a:solidFill>
                  <a:srgbClr val="000000"/>
                </a:solidFill>
                <a:latin typeface="Univer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20:03:53Z</dcterms:created>
  <dc:creator>Your User Name</dc:creator>
  <dc:description/>
  <dc:language>en-US</dc:language>
  <cp:lastModifiedBy>iesao</cp:lastModifiedBy>
  <cp:lastPrinted>2004-10-05T18:15:31Z</cp:lastPrinted>
  <dcterms:modified xsi:type="dcterms:W3CDTF">2005-10-14T11:50:13Z</dcterms:modified>
  <cp:revision>153</cp:revision>
  <dc:subject/>
  <dc:title>Diapositiva 1</dc:title>
</cp:coreProperties>
</file>