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3FC-DF31-4D15-934D-0C1FB488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A11-FE4D-4FE1-ACF7-F6186169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9DA-E4FC-4159-8D6A-D72490C4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E36-0B90-48C7-9959-1CC73550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B3FD-D1BF-472E-8FB6-0284663C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D77-F3FE-4148-BE7F-2D54552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89E-18F7-413A-9BD9-05A5E841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5044-E803-48EB-84D5-4BD0975C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2AC7-BDAB-4B08-93E5-CFADAAA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2277-B5ED-42DF-8CFC-BF424620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3DD-1AFD-4213-B65F-A80151D4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B1A-90F0-4D33-9C57-4357254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82E3-6EED-4D6E-A890-CD3AA43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282B-9DC8-4021-9E08-0583BAE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D95B-DF07-4124-99AE-61D45BB0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EFB6-2640-42C5-AC71-9961B320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9207-AA6E-4D22-A4B6-9189F51C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C2E-721C-465D-9692-A7B2F663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084-6F0C-46C0-8F99-23F8012B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0B6-0959-4766-A655-E623136F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7BC-51CA-4FA4-BDF0-E528FD8F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3F9-14BA-48E6-9F34-53366EC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B52-52F6-4E05-951C-2511D36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22C-0318-4A04-BE79-89F4B76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2B90-9E6B-4BD2-B230-EC944DDBE3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401B-3007-455A-8B1B-FDD8FD2219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ISCO88, ISCO08 and </a:t>
            </a:r>
            <a:r>
              <a:rPr b="0" lang="hu-HU" sz="4800" spc="-1" strike="noStrike">
                <a:solidFill>
                  <a:srgbClr val="330033"/>
                </a:solidFill>
                <a:latin typeface="Times New Roman"/>
              </a:rPr>
              <a:t>E</a:t>
            </a: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Se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onal Meeting, 9 Dec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ation of 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ac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ifying according to skil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aching professionals in major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aching associate professionals in major 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ifying teachers outside the educational system is problema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cational trainers in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 teachers not in the education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chnici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under engineer’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er skil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er independence i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assification of technical occupations (engineers, technicians) is problematic, because the breaking down of these groups are not by tasks, but by branches (of study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le dimension of classific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ing –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Updating of Hungarian Standard Classification of Occupa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large the list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obsolete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dd new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change the place of certain occupations 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tualize the content description of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Enlarging of list of jo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cupational entries captured by the 2001 Census in electronic form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llecting and classifying job ti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cancy adverti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b lists of big emplo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als of experts, ministrie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Experience of 2001 Cens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ification method of managers is too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inction between major group 2 and 3 is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and actualizing of description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on of new occupations are need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occup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siness and finance occup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ccupations in public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ccupations in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Hungarian socio-economic classif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eC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sition on the labour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onomic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us in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terprise size and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mber of workers super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ur-level, nested classification, with 7, 11, 15 and 35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ividual level (current or previous occupation and employment character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usehol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ad of the house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usehold reference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Version of 11 catego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 employers, higher managerial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er professionals,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er managerial, professional and higher technical, supervisory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ediate technical, clerical and skilled sales, service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 employers and self-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 employers and self-employed in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er supervisors and skilled industrial occup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mi-routine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c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exposed to labour market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active population never wor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Main topics of the presen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acteristics of corporate and general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 treatment and of super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rses and teachers, distinguishing of major group 2 an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 of tech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of classification of technical occupations (engineers, technic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ing of Hungarian Standard Classification of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ngarian Socio-economic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racteristics of Manag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rporate manag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rs of business and budgetary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ze of enterprise: 20 or more employe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eneral manag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managers of small enterprises and budgetary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ze of enterprise: 3-19 employe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nagers of small units, shops employing 1 or 2 people are not classified in major group 1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orporate manag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NAGERS OF BUSINESSES AND BUDGETARY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31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neral managers of business organisations and budgetary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1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business organisations (directors, 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1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budgetary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32-133  Department managers of business organisations and budg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2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managers in agriculture and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2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managers in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34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managers i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35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managers in cultur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39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ment managers in production and services n.e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orporate manag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134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nagers of functional units in business organisations and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udgetary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keting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ountancy and finance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3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 resources (personnel)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4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vertising and other public relations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5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ly and distribution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6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chnical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7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uting services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8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earch and development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49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ctional unit managers n.e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orporate manag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135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ion supervisors of business organisations and budget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agriculture and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3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co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4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wholesale and retail trade, restaurants and hot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5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transport, forwarding and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6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communications and postal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7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water supply and commun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8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ervisors i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359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duction supervisors n.e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racteristics of supervis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age the production and the daily activity of workers of a certain field within the enterp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e workloads, amount of inputs for give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ign tasks to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ordinate th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the quality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the security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eneral manag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NERAL MANAGERS OF SMALL ENTERPRISES AND BUDGETARY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1-142  General managers of small business undertakings (directors,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irpersons,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ing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rectors, manag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1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small undertakings in agriculture and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1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small undertakings in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13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small undertakings in co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24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small undertakings in education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25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small undertakings in cultur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429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al managers of small undertakings n.e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Nur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88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ifying according to skill level, tasks are the same in major group 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fessional nurses in major 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rses in major 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istant nurses in major group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ssible classifying criterion, according to the character of tasks perform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rses „helping physicia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rses „working at the b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8:28:10Z</dcterms:created>
  <dc:creator>nn3456</dc:creator>
  <dc:description/>
  <dc:language>en-US</dc:language>
  <cp:lastModifiedBy>nn3456</cp:lastModifiedBy>
  <dcterms:modified xsi:type="dcterms:W3CDTF">2005-12-08T13:39:36Z</dcterms:modified>
  <cp:revision>18</cp:revision>
  <dc:subject/>
  <dc:title>ISCO88, ISCO08 and ESeC</dc:title>
</cp:coreProperties>
</file>