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C735-AF49-4CE9-9578-763D09262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64B1-9E90-4CBF-95E8-C5998EE3B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B0E3-BA26-463A-8C84-A07D822EE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A30D-26A7-43F2-8859-07E1D5F95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0F9C-63C2-40DB-9869-82A16A225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6A53-411F-4E62-AEFF-31CB785E2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0E48-8168-45BC-A1F2-9557BBC1D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B1A9-AA04-4F96-9BFB-200E29398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E6E9-40FB-4278-BDB1-9E027A9F5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037C-0B38-477D-8FC0-7123E537B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B38B-29BE-41D1-977B-5E2B52096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62D8-449B-45B0-8A82-E5A04115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6E6DA-64FD-485F-8949-DBDC596806C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lo.org/public/english/bureau/stat/isco/index.htm" TargetMode="External"/><Relationship Id="rId2" Type="http://schemas.openxmlformats.org/officeDocument/2006/relationships/hyperlink" Target="http://www.ilo.org/public/english/bureau/stat/isco/index.ht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549360"/>
            <a:ext cx="8209080" cy="47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eting of the United Nations Expert Group on International Economic and Social Classifications (UNE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ew York, 20 – 24 June 200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points drawn from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ummary of discussion on ISCO-88 revision (20 - 21 Ju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d by Peter El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95280" y="476280"/>
            <a:ext cx="8424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cific issues relevant to ESeC (contd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kers with management responsibilities and working proprie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was agreed that the underlying principles of ISCO should not be changed in this area but that they need to be further clar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ministration professio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ropean countries supported the proposal for the creation of a separate Unit Group for administration professionals quite strongly, but there was little general support for this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4360" y="907920"/>
            <a:ext cx="7920000" cy="47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CO and ESeC: Where do we need to focus our effort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rgaret Bi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stitute for Employment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niversity of Warwi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79280" y="189000"/>
            <a:ext cx="8964720" cy="66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sues for 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istinction between ISCO sub-major groups 12 and 13 (corporate managers and general managers/managers of small enterprise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lassification of super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istinction between ‘professional’ and ‘associate professional and technical’ occupations – perhaps not just an issue for China and Indi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lassification of shopkee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lassification of public service administrative professiona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4360" y="765000"/>
            <a:ext cx="80643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17th Conference of Labour Statisticians (ICLS) in December 2003 mandated that ISCO-88 should be updated.  Due to the lack of ILO resources, the significant time constraint imposed, and the need for continuity, the review of ISCO was to be a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pd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nly and the structure and fundamental principles underpinning it were not to be chang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50920" y="0"/>
            <a:ext cx="8713800" cy="70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ethodology to data (November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nsultant’s repor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bbie Budlender (2003), </a:t>
            </a:r>
            <a:r>
              <a:rPr b="0" i="1" lang="en-ZA" sz="2800" spc="-1" strike="noStrike">
                <a:solidFill>
                  <a:srgbClr val="000000"/>
                </a:solidFill>
                <a:latin typeface="Arial"/>
              </a:rPr>
              <a:t>Whither ISCO-88?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cy Integration Department Working Paper No. 9, International Labour Office, Genev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Questionnair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obtain general guidelines as well as concrete recommendations for the creation of new occupational groups and to improve the descriptions of already existing groups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eb foru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set up to further facilitate countries’ participation in the review 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ilo.org/public/english/bureau/stat/isco/index.ht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echnical Expert Group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TEG/ISCO) now formed to assist with the ISCO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68360" y="476280"/>
            <a:ext cx="8136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ical Expert Gro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TEG/ISC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sion-making body for ISCO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 statistical organisations from a number of countries have been selected for the ISCO technical subgroup (inc. Canada, UK, Republic of Korea, Australia, Botswana, Germany and Urugua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50920" y="189000"/>
            <a:ext cx="8642160" cy="62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echnical Expert Group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TEG/ISC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EG/ISCO will work in collaboration with ILO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proposals for the boundaries of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ing proces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e collection and review of proposals f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of ISC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de on draft proposals for updates of ISC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ulings on interpretation of the curren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C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the draft structure and discuss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s to be submitted to the UNEG 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nomic and Social Classifications, the IL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partite Meeting of Experts on Labou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stics’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68360" y="549360"/>
            <a:ext cx="820728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9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EG/ISCO will report to the UN Expert Group on Economic and Social Classifications (UNEG) for evaluation of their tasks and approval of their findings or deci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9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its recent meeting, the UN Expert Group on Economic and Social Classifications determined how the TEG/ISCO will continue to fun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9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UNEG will provide advice to the ILO to assist the development of papers for the ILO Tripartite Meeting of Experts on Labour Statistics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24000" y="404640"/>
            <a:ext cx="8424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imetable for work of the TEG/IS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ation of proposals for boundaries of revision for ratification by UNEG – September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draft structure for consideration by UNEG – January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discussion documents for the ILO Tripartite Meeting of Experts on Labour Statistics – July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9640" y="549360"/>
            <a:ext cx="8064720" cy="59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did the UN Expert Group say about the Review of ISC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rns expressed that ISCO88 very out of date – gave examples of occupational areas where new occupations had emerged (finance, media, etc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O replied that no strong support for this notion from consultant’s report or from country questionnaires.  ILO argued that ‘main direct users of ISCO are developing countries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rns expressed about the extent of the Review, the work involved and the lack of any long term strategic plan for development and maintenance of IS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t Group concluded that further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more broader discussions were required by a larger number of experts via the web forum and in particular by the TEG/IS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79280" y="115920"/>
            <a:ext cx="8785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cific issues of relevance to ESeC discussed by the Expert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th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jor Groups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Professiona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Technicians and associate professiona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ould be merged (China and Indi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or Group 12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duction and operations department managers and Sub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jor Group 1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eneral managers (no consensus on this issu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erviso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t was agreed that the tasks and duties of managers and supervisors need to be further investigated, and that, if required, separate unit groups created for some supervisory occup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4T09:47:50Z</dcterms:created>
  <dc:creator>iesaj</dc:creator>
  <dc:description/>
  <dc:language>en-US</dc:language>
  <cp:lastModifiedBy>KSH</cp:lastModifiedBy>
  <dcterms:modified xsi:type="dcterms:W3CDTF">2005-12-09T08:00:07Z</dcterms:modified>
  <cp:revision>8</cp:revision>
  <dc:subject/>
  <dc:title>Slide 1</dc:title>
</cp:coreProperties>
</file>