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6AA-4A29-4540-ADFC-8B3DB368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0E6-AE51-4569-8AE6-695C3978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4BD-B9AB-493F-B232-05586C54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3AB-0B14-4D7B-9FE7-2F657D31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C81-7A1B-468E-876A-05D61201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77E-C0EB-4164-B427-AD091A96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682-1420-4D82-A5DB-F9398B46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DCD-2BA4-4B9A-AC84-BD8CB16A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A95-CF12-450B-8E61-C0A0C319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698-AF6B-4F50-BAF1-9F99527E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1F6-DD7D-484C-B8E3-E1E8FE22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1ED-0ED5-4957-9FB2-1FDF79A4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95EF-EC77-4307-9D62-45361FC6280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tistics Nether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es Bernelot Mo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inions on revision of ISCO 19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w occupations don’t fit in the minor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ppor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posed groups of information technology occup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ther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w label of 6111 (Field crop and vegetable growers) should be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on-perennial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op gro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ce versa 6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wever ‘perennial’ doesn’t seem  a good criterion for a classification of occupations (preference for the old lab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r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as two agricultural meanings: the plant itself and parts of it (leaves, fruits etc.) =&gt; labels 6111 and 6112 are conf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ere in 611 do growers of cut flowers, bulbs, ornamental trees and plants, seeds for seeding f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ther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6151 Title Aquaculture workers: should be Animal aquaculture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t is difficult to judge new unit groups without new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n’t use ISCO 19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ve our own National Standard Classification of Occupations 19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CO and national codes are derived from common more detailed provisional codes with help of algorithms that makes use of (if nee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mploym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umber of workers superv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vel and field of education/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SCO not adequate for Dutch purposes becaus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umber of skill levels is not sufficient (4 in stead of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o major groups have no skil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t is not detailed and systematic enough for the Dutch labou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CO should be adequate to organise/advice on matching of demand and supply on the international labour market (wish of the European Employment Agenc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teria for update IS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o much difference in skill level within major and minor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o much heterogeneity of occupations within minor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occupations don’t fit in the minor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gh frequencies of occupations in heterogeneous res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on-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9999"/>
                </a:solidFill>
                <a:latin typeface="Arial"/>
              </a:rPr>
              <a:t>locatio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here the job is fullfilled (shop, market, street, contact centre, ho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9999"/>
                </a:solidFill>
                <a:latin typeface="Arial"/>
              </a:rPr>
              <a:t>mediu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used to provide services, including sales (internet, telephone or face to f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stead of location or medium the criterion should be: skill specialisation based on the kind of service to be delivered or the kind of product to be s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oo much difference in skill level within major and minor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p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itting skill level 2 in low and intermediate skil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w = about ISCED 2 (pre)vocational education or 3C short (or comparable ski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mediate = ISCED 3-4 excluding 3C short (or comparable ski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oo much difference in skill level within major and minor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ppor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duction and definition of sepa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9999"/>
                </a:solidFill>
                <a:latin typeface="Arial"/>
              </a:rPr>
              <a:t>front-line managers/ supervisor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under 122 and 123 (department manag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oo much difference in skill level within major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 sup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itting up skill level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requencies become too low in highest level and operationalising is too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o much heteroge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pport splitting up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rsing and midwifery profess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neral and specialised phys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st other spl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44:05Z</dcterms:created>
  <dc:creator>Mies Bernelot Moens</dc:creator>
  <dc:description/>
  <dc:language>en-US</dc:language>
  <cp:lastModifiedBy>Mies Bernelot Moens</cp:lastModifiedBy>
  <dcterms:modified xsi:type="dcterms:W3CDTF">2005-12-07T09:43:30Z</dcterms:modified>
  <cp:revision>5</cp:revision>
  <dc:subject/>
  <dc:title>Statistics Netherlan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06795493</vt:r8>
  </property>
  <property fmtid="{D5CDD505-2E9C-101B-9397-08002B2CF9AE}" pid="3" name="_AuthorEmail">
    <vt:lpwstr>MBRT@CBS.nl</vt:lpwstr>
  </property>
  <property fmtid="{D5CDD505-2E9C-101B-9397-08002B2CF9AE}" pid="4" name="_AuthorEmailDisplayName">
    <vt:lpwstr>Bernelot Moens, mevr ir. W.E.</vt:lpwstr>
  </property>
  <property fmtid="{D5CDD505-2E9C-101B-9397-08002B2CF9AE}" pid="5" name="_EmailSubject">
    <vt:lpwstr>powerpoint presentation for 9 december</vt:lpwstr>
  </property>
</Properties>
</file>