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E28-1921-4AC0-826A-7570A48F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CF3-1DF9-45E5-A7CF-EE880240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5C1-F3F5-418A-B037-5EBF2E95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D2B-F272-4C67-9222-54E362D7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B1DA-6D20-4D02-BBDF-A4DC5405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E39-A0E8-4A6B-B77C-F9443C16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1D1-1D5C-4A41-B736-F8DD076F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65E-5FA9-4480-BD42-BC1E4828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643-E45E-46BE-B85A-4F3E12E5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A95-AA16-4EE4-9A6E-822652BA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D28-B09B-480B-A31D-5CB1F66E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2357-12EB-484A-8F5C-CC0DA449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4E1D-F6D3-4863-B387-FC2CBCE0C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549360"/>
            <a:ext cx="705636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points arising from the first three regional worksh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lo,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une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bon,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pt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raeus, 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pt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Elias and Margaret Bi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293760"/>
            <a:ext cx="8137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rtug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ritical of structure of maj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trong desire to identify superviso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oremen and distinguish betwe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blems distinguishing betwe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s and professional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occupations in major group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nd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lgiu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dual language coding clear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s cultural and linguist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of compa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of job title inf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344880"/>
            <a:ext cx="8424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ational classification has differ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basis from ISCO 88, doub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comparative natur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ation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we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vidence of job title inflation 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s and techn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rw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ifficult to distinguish betwe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occupations and manag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– supervisors are identified at the fif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thuan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ncern about the large numb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jobs classified to major 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70344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tv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ncern about the classification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s in small enterp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nl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mparison with the Swedis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practice revealed variou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ton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blems of distinguishing betwe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s and supervisors and betwe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s and professi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nm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esire to identify supervisors b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distinguish from juni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07640"/>
            <a:ext cx="939636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n to have a classification that can b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emented from job titles al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nch and German language versions of ISC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ed non-compatible in some 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est for new IT occupations to be identif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interest in identifying a high leve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ervisory category in major group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Gree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interest in identifying supervisors in ISC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concerns about the practical implement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th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ypru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a request to identify working proprie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support for identification of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ervisors in specific 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6:42:41Z</dcterms:created>
  <dc:creator>Peter Elias</dc:creator>
  <dc:description/>
  <dc:language>en-US</dc:language>
  <cp:lastModifiedBy>Peter Elias</cp:lastModifiedBy>
  <dcterms:modified xsi:type="dcterms:W3CDTF">2005-12-08T16:57:44Z</dcterms:modified>
  <cp:revision>3</cp:revision>
  <dc:subject/>
  <dc:title>Slide 1</dc:title>
</cp:coreProperties>
</file>