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5128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D3411A9-4CC5-4AC6-B3B9-B56ADAAE1525}" type="datetime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9080" y="74268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5128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857468D-F5E6-49B3-B072-6B8B1511C4F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ZNÁMK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220 – podnik má jen dvoustupňovou úroveň řízení a velký počet pracovník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?Co je to velký? – musíme se domluvit s ČSÚ a ostatními členy týmu KZ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efinice z K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Vrcholový manažerStav: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Vrcholový manažer je vysoce kvalifikovaný pracovník, který řídí organizaci nebo rozsáhlé odborné úseky organizace, formuluje poslání a vizi firmy a určuje strategické cíle rozvoje v hlavních funkčních oblaste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racovní činnosti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Řízení prognózování vývoje. Stanovení podnikatelských strategických cílů a strategické plánování. Strategické rozhodování při realizaci podnikatelské strategie a efektivního využívání vnitřních zdrojů. Strategické řízení a ovlivňování inovačních a vývojových procesů. Strategické řízení a kontrola hospodaření organizace. Strategické řízení výrobních, marketingových, informačních procesů. Strategické řízení procesů rozvoje kvality v organizaci. Strategické řízení personální práce a oblasti hmotné zainteresovanosti zaměstnanců. Spolupráce se správními orgány (představenstvem, dozorčí radou). Řízení a kontrola oblasti bezpečnosti a hygieny práce. Vyjednávání s rozhodujícími vnějšími subjekty. Vedení technické a provozní dokument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Odborný manažer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acovník s vyšší kvalifikací, který řídí podle začlenění svého pracovního místa v hierarchii firemní organizační struktury svěřený odborný úsek a komplexně realizuje řídící činnosti směřující k naplňování strategických cílů rozvoje organizace.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Pracovní činnosti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Rozpracování firemní strategie, plánování podnikatelských aktivit útvaru a využití jeho kapacit. Organizování procesů, realizace podnikatelské strategie. Řízení, organizování a kontrola podnikatelských procesů ve svěřeném úseku. Identifikace a řešení interpersonálních a interútvarových problémů. Ovlivňování inovačních a vývojových procesů. Zajištění efektivnosti hospodaření a hodnocení výkonnosti. Řízení procesu kvality práce, produktů a služeb svěřeného úseku. Řízení zaměstnanců, rozdělování úkolů a kontrola jejich plnění, motivování, hodnocení zaměstnanců a zabezpečení dalších personální činnosti útvaru. Jednání s kooperujícími úseky a s tržními partnery. Řízení a kontrola oblasti bezpečnosti a hygieny práce. Vedení příslušné technické a provozní dokum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jvýše jednoho dalšího – poslední úroveň vedení v bance, pojišťovně, obchodu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edoucí malých podniků – i když mají složitou organizační struktu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še klasifikace rozlišuje vedoucí pracovníky ve výrobní sféře (mistři). Jsou zařazeni v podskupinách ve 3. třídě dle specializace dovednost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ostatních oblastech tento problém nezná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Nový návrh od IS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Rozdělit současnou podskupinu 22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2231 Nursing profession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2232 Midwifery profession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U všech sester dříve postačovaly znalosti a dovednosti na úrovni dtředoškolského vzdělání. Proto byly v KZAM klasifikováni pouze ve 3. třídě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Od roku 2004 jsou na zdravotní sestry kladeny vyšší púžadavky na předpokládané znalosti a dovednosti, proto bude nutná aktualizace naší klasifikace v této oblast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Pravděpodobně využijeme skupinu 223, která v naší klasifikaci doposud nebyla zařaze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Vrchní sestr, které dle KZAM se zařazují do 12293 Vedoucí provozního útvaru velkého zdravotnického zařízení se dle ISCO zařazují do 223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19 – lektor VŠ, metodik výuky cizích jazyků, odborný instruktor V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3 stejné v KZAM i ISCO – proto jsem to do tabulky neuved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19 – lektor VŠ, metodik výuky cizích jazyků, odborný instruktor V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3 stejné v KZAM i ISCO – proto jsem to do tabulky neuved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C28D-A4ED-41B1-9A6E-2843F81E0C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7840" y="1066320"/>
            <a:ext cx="752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17840" y="3613680"/>
            <a:ext cx="752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2C8FE-349A-4D46-B445-06E839F5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17840" y="1066320"/>
            <a:ext cx="3672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74520" y="1066320"/>
            <a:ext cx="3672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17840" y="3613680"/>
            <a:ext cx="3672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74520" y="3613680"/>
            <a:ext cx="3672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B8415-1CD2-4490-9C7A-EC44029D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17840" y="1066320"/>
            <a:ext cx="2423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62680" y="1066320"/>
            <a:ext cx="2423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07160" y="1066320"/>
            <a:ext cx="2423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17840" y="3613680"/>
            <a:ext cx="2423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62680" y="3613680"/>
            <a:ext cx="2423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07160" y="3613680"/>
            <a:ext cx="2423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E8430-3F17-4B19-BDD2-95DB436D6A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17840" y="1066320"/>
            <a:ext cx="7526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0BCE2-668D-4627-BDC9-29FDE2B7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17840" y="1066320"/>
            <a:ext cx="7526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5433-B1D1-49E2-A632-67581A0C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17840" y="1066320"/>
            <a:ext cx="367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74520" y="1066320"/>
            <a:ext cx="367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6D62-F13D-4B51-9ADD-A62DA305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EBCD3-E6E2-4509-B308-9A2BE750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47280" y="304560"/>
            <a:ext cx="75963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E048-5509-44F6-9418-028B5874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7840" y="1066320"/>
            <a:ext cx="3672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74520" y="1066320"/>
            <a:ext cx="367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17840" y="3613680"/>
            <a:ext cx="3672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F210-5824-4111-9C72-B8DBE3FD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7840" y="1066320"/>
            <a:ext cx="367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74520" y="1066320"/>
            <a:ext cx="3672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4520" y="3613680"/>
            <a:ext cx="3672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0295-97D5-460A-97F9-DFA6DFA9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7840" y="1066320"/>
            <a:ext cx="3672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4520" y="1066320"/>
            <a:ext cx="3672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17840" y="3613680"/>
            <a:ext cx="752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5C9C-29D6-49DD-86F6-DEE90518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rcRect l="0" t="5591" r="0" b="10231"/>
          <a:stretch/>
        </p:blipFill>
        <p:spPr>
          <a:xfrm>
            <a:off x="76320" y="665280"/>
            <a:ext cx="5283000" cy="6114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490760" y="228600"/>
            <a:ext cx="7653240" cy="74916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798720" y="6324480"/>
            <a:ext cx="534528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727080" y="632448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7104240" y="632448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75D87C05-05DC-44E5-897E-EB2CED084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1617840" y="1066320"/>
            <a:ext cx="7526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6633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6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52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52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52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228600"/>
            <a:ext cx="560520" cy="762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49440" y="247680"/>
            <a:ext cx="739800" cy="728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48520" y="5105520"/>
            <a:ext cx="2133360" cy="84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7640" y="304920"/>
            <a:ext cx="7596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920" y="1989000"/>
            <a:ext cx="7812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CO 88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3573360"/>
            <a:ext cx="705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olka@trexima.cz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lkova@trexima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CO 88, ISCO 2008 and the Development of the ESeC 9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1484280"/>
            <a:ext cx="849780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210 Directors and chief executives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Ředitelé a prezidenti velkých organizací, podniků, společnos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-7160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ule: at least two other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-7160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-7160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220 Production and operations department manager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doucí pracovníci výrobních a provozních dílčích celků velkých organizací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-71604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le: at least two other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-7160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-7160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Corporate manag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CO 88, ISCO 2008 and the Development of the ESeC 9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General managers</a:t>
            </a:r>
            <a:br>
              <a:rPr sz="20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557360"/>
            <a:ext cx="864216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310 General manager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edoucí, ředitelé malých organizac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le: no more than one other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CO 88, ISCO 2008 and the Development of the ESeC 9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ERVISORS</a:t>
            </a:r>
            <a:br>
              <a:rPr sz="20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" y="1484280"/>
          <a:ext cx="8569080" cy="4156200"/>
        </p:xfrm>
        <a:graphic>
          <a:graphicData uri="http://schemas.openxmlformats.org/drawingml/2006/table">
            <a:tbl>
              <a:tblPr/>
              <a:tblGrid>
                <a:gridCol w="601560"/>
                <a:gridCol w="3646440"/>
                <a:gridCol w="647640"/>
                <a:gridCol w="3673440"/>
              </a:tblGrid>
              <a:tr h="569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Z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vil engineering technici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vební techn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production supervisor</a:t>
                      </a:r>
                      <a:br>
                        <a:rPr sz="1400"/>
                      </a:b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tr  stavební výro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ical engineering technici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techn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ical systems supervisor</a:t>
                      </a:r>
                      <a:br>
                        <a:rPr sz="1400"/>
                      </a:b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tr elektrotechnické výroby, výroby 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vodu ener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 and telecommunica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ineering technici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ici a technici v radiokomunikací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telekomunikací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 equipment and telecommunications supervisor </a:t>
                      </a:r>
                      <a:br>
                        <a:rPr sz="1400"/>
                      </a:b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tr elektronické výroby, radiokomunikačníh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ekomunikačního provoz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CO 88, ISCO 2008 and the Development of the ESeC 9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Nur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341360"/>
            <a:ext cx="86421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499"/>
              </a:spcBef>
              <a:buClr>
                <a:srgbClr val="ff6633"/>
              </a:buClr>
              <a:buFont typeface="Times New Roman"/>
              <a:buAutoNum type="arabicPeriod" startAt="10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spcBef>
                <a:spcPts val="601"/>
              </a:spcBef>
              <a:buClr>
                <a:srgbClr val="ff6633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700280"/>
          <a:ext cx="8351640" cy="2922480"/>
        </p:xfrm>
        <a:graphic>
          <a:graphicData uri="http://schemas.openxmlformats.org/drawingml/2006/table">
            <a:tbl>
              <a:tblPr/>
              <a:tblGrid>
                <a:gridCol w="587160"/>
                <a:gridCol w="3771720"/>
                <a:gridCol w="609480"/>
                <a:gridCol w="3383280"/>
              </a:tblGrid>
              <a:tr h="341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Z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rsing and midwifery profess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rsing and midwifery profess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rsing and midwifery associate profess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borní ošetřovatelé, zdravotní se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rsing associate profess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šetřovatelé, zdravotní ses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wifery associate profess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nské sestry, porodní asistent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try pro péči o dí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try pro psychiatrickou péč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try pro intenzivní péč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CO 88, ISCO 2008 and the Development of the ESeC 9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each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341360"/>
            <a:ext cx="86421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499"/>
              </a:spcBef>
              <a:buClr>
                <a:srgbClr val="ff6633"/>
              </a:buClr>
              <a:buFont typeface="Times New Roman"/>
              <a:buAutoNum type="arabicPeriod" startAt="10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spcBef>
                <a:spcPts val="601"/>
              </a:spcBef>
              <a:buClr>
                <a:srgbClr val="ff6633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268280"/>
          <a:ext cx="8675640" cy="4311720"/>
        </p:xfrm>
        <a:graphic>
          <a:graphicData uri="http://schemas.openxmlformats.org/drawingml/2006/table">
            <a:tbl>
              <a:tblPr/>
              <a:tblGrid>
                <a:gridCol w="609480"/>
                <a:gridCol w="3803760"/>
                <a:gridCol w="598320"/>
                <a:gridCol w="3664080"/>
              </a:tblGrid>
              <a:tr h="3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Z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ege, university and higher educ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ing profess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ědeckopedagogičtí pracovníci a učitel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vysokých školá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ege, university and higher educ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ing profess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ědeckopedagogičtí pracovní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tatní učitelé na vysokých školá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ary education teaching profess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 střední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ary education teaching profess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é všeobecně vzdělávacích předmět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é odborných předmět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é praktického vyučování (kromě mistrů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ucation teaching profess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é na speciálních školá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education teaching profess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é všeobecně vzdělávacích předmět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é odborných předmět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é praktického vyuč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CO 88, ISCO 2008 and the Development of the ESeC 9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each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341360"/>
            <a:ext cx="86421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499"/>
              </a:spcBef>
              <a:buClr>
                <a:srgbClr val="ff6633"/>
              </a:buClr>
              <a:buFont typeface="Times New Roman"/>
              <a:buAutoNum type="arabicPeriod" startAt="10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714240">
              <a:spcBef>
                <a:spcPts val="601"/>
              </a:spcBef>
              <a:buClr>
                <a:srgbClr val="ff6633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0920" y="1268280"/>
          <a:ext cx="8675640" cy="4378320"/>
        </p:xfrm>
        <a:graphic>
          <a:graphicData uri="http://schemas.openxmlformats.org/drawingml/2006/table">
            <a:tbl>
              <a:tblPr/>
              <a:tblGrid>
                <a:gridCol w="609480"/>
                <a:gridCol w="3803760"/>
                <a:gridCol w="598320"/>
                <a:gridCol w="3664080"/>
              </a:tblGrid>
              <a:tr h="33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Z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teaching professio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é a odborní pedagogičtí pracovníci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nde neuved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 method specia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isté zaměření na metody výu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ol inspe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lní inspektoř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é základních uměleckých šk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é jazykových škol a učitelé jazyků (kromě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ů jazyků na školá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é pedagogických středisek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dagogicko-psychologických pora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borní pedagogové v zařízeních pro  výk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stavní a ochranné výcho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teaching professionals not elswhe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tatní odborní pedagogičtí pracovníci jin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ved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CO 88, ISCO 2008 and the Development of the ESeC 9.12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19:51:53Z</dcterms:created>
  <dc:creator>Vladimír Smolka</dc:creator>
  <dc:description>2002 - expertní
Vytvořeno na základě  Smluvní podniky_ 011113.ppt</dc:description>
  <dc:language>en-US</dc:language>
  <cp:lastModifiedBy>lada_s</cp:lastModifiedBy>
  <cp:lastPrinted>2001-11-12T12:55:30Z</cp:lastPrinted>
  <dcterms:modified xsi:type="dcterms:W3CDTF">2005-12-09T09:38:23Z</dcterms:modified>
  <cp:revision>191</cp:revision>
  <dc:subject/>
  <dc:title>Przentace ISPV pro ÚP</dc:title>
</cp:coreProperties>
</file>