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32D-9F1C-4D3C-9B40-652355D6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D74-CCE8-440E-B89B-085824DE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981-7DC0-4E5A-B414-467CC564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996-C9B3-49C9-887C-AAA686C8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7B04-3030-4A46-894F-E179DD8D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0B13-9B8E-4D7A-A7EA-688EB53B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D8DD-81A8-4829-9129-2543865C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B611-3E5E-4EC2-B2B1-6EFCECEB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D187-F71B-48E8-A0AB-3786B81F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1232-922D-4611-9644-F0881014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47AD-93D5-4E83-8A01-454B9EC9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304F-887F-403F-86CA-34F068A5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5E0B-F8D9-49F8-BBC9-73FAA9E7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F2CD-3D52-42F3-B214-437C8374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41F3-C114-43FD-A806-74B02DB5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D82F-EE55-4982-964B-D40BC429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03B4-05E7-4DBE-B6A6-DE782C1F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752-4D25-4391-8A31-44CBF7B6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32C7-F421-4227-8B6D-F9602A58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DAD-B64A-4F9E-867D-8912504A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6D0-70E7-4D70-9B05-48EF9DE8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E79-0DC3-4733-92BB-E3456A78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33C-7FC7-4B11-9977-E5BAC965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411-6D86-4AFB-820D-AE29D78E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7490-C3EB-4832-B5A0-8A0B50D03D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9B71-2C92-4AF7-8CFC-9F8FC92968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14475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imes New Roman"/>
              </a:rPr>
              <a:t>National experience of using </a:t>
            </a:r>
            <a:r>
              <a:rPr b="1" lang="bg-BG" sz="3200" spc="-1" strike="noStrike">
                <a:solidFill>
                  <a:srgbClr val="ffcc00"/>
                </a:solidFill>
                <a:latin typeface="Tahoma"/>
                <a:ea typeface="Times New Roman"/>
              </a:rPr>
              <a:t>ISCO 88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imes New Roman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imes New Roman"/>
              </a:rPr>
              <a:t>Why do we update NCO 96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pared by: Galya State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ational Statistical Institu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ulg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Summary</a:t>
            </a:r>
            <a:r>
              <a:rPr b="0" lang="bg-BG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&amp; </a:t>
            </a:r>
            <a:r>
              <a:rPr b="0" lang="bg-BG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Progress report</a:t>
            </a:r>
            <a:r>
              <a:rPr b="0" lang="en-GB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ases of b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ilding 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mai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tenance and using of the National Classification of Occupations (NCO) in Republic of Bulg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uilding up and mainte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ge of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N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mplementation of Eurostat requirement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514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Progress repor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While u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ng NCO in the statistical surveys the follow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sults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chie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atibility between the national and international surveys of labour, labour force and occupational structure of popula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dvanced exchange of statistical information on the national, bilateral, European and international lev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What are we doing in the las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ew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ye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tion of instructions for using the NCO in the Census of population  in March 200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 2003 by an Order of the Minister of Education and Science was approved a List of Occupations for Vocational Tra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Working 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formation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yste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Statistical classifications”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or maintenance of the national class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update of NCO 96 started in the beginning of 2005 in order to reflect changes in the economical life and respectively in the labour force structure during the last 9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360000"/>
            <a:ext cx="79246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Why do we need to update the NCO’96 before the general revision of ISCO 88</a:t>
            </a:r>
            <a:r>
              <a:rPr b="0" lang="bg-BG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?</a:t>
            </a:r>
            <a:r>
              <a:rPr b="1" lang="bg-BG" sz="4400" spc="-1" strike="noStrike" u="sng">
                <a:solidFill>
                  <a:srgbClr val="ffcc00"/>
                </a:solidFill>
                <a:uFillTx/>
                <a:latin typeface="Arial Black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main reason is: transition to market econom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CO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96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s presently not corresponding to the actual requirements of the labour force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expansion of foreign investments in Bulg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explanatory notes (especially for the job titles in the field of ICT) are well out of tim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t the level of the unit group there are substantial differences between NCO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’96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d ISCO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–88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are changes in the structure and the certification of the Vocational education and training institution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harmonization of the terms used in NCO and ISCO -88 i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Main problems in using NCO in statistical surveys</a:t>
            </a: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 term of ‘difficult to code” occupational information, the Classification of occupations alone is not sufficient tool to collect reliable data and to make quality re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ks between the educational degrees by ISCED and ISCO-positions, or in defining the unit groups of technical du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fficulties in distinction between professionals and technican and associate professionals, between managers of small fir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are still essential and quick changes underway in the national economy, as regards legislation and its functioning, labour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mplementation of a special classifications of public servant, without distinction of their specific ta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spite of the obligation for using NCO in bookkeeping by the enterpris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7992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Some p</a:t>
            </a:r>
            <a:r>
              <a:rPr b="0" lang="bg-BG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roposals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 about the Revision of ISCO 88</a:t>
            </a: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re detailed explanation of the specific unit-group-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aking into consideration the quick development of technologies and mass PC-u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 will be useful if in ISCO-revision there are elaborated detailed rules for using the ISCO as an essential and integral part of the class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SI opinion is, that an availability of Regulation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or ISCO implement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is very important condition for wide and unified usage of classification for statistical purposes in the EU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ILO should concentrate on securing guidelines for countries on how to develop their national index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ment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of a Dictionary of Terms in Classification, which would enable standardizing terminology in different countries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82480"/>
            <a:ext cx="77724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How to treat some occupations in our national practice?</a:t>
            </a: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relation between managing and operational ta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erviso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stinction between corporate managers and general manag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 FOR YOUR ATTENTI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36:13Z</dcterms:created>
  <dc:creator>nsi</dc:creator>
  <dc:description/>
  <dc:language>en-US</dc:language>
  <cp:lastModifiedBy>nsi</cp:lastModifiedBy>
  <dcterms:modified xsi:type="dcterms:W3CDTF">2005-12-07T03:06:44Z</dcterms:modified>
  <cp:revision>34</cp:revision>
  <dc:subject/>
  <dc:title>National experience of using ISCO 88   &amp;  Why do we update NCO 96 </dc:title>
</cp:coreProperties>
</file>