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480" y="1396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480" y="1396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609840" cy="4651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838080"/>
            <a:ext cx="914400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80920"/>
            <a:ext cx="704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CO 88, ISCO 2008 and the Development of the ESeC, BUDAPEST 9 DECEMBE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404640"/>
          <a:ext cx="8567640" cy="609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85676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640640" y="228600"/>
            <a:ext cx="119844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on of ISCO-8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pective of Euro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984400"/>
                <a:gridCol w="1295640"/>
                <a:gridCol w="1164960"/>
                <a:gridCol w="1163880"/>
                <a:gridCol w="11635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9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s 3 and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9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984400"/>
                <a:gridCol w="1295640"/>
                <a:gridCol w="1164960"/>
                <a:gridCol w="1163880"/>
                <a:gridCol w="11635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8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595600"/>
                <a:gridCol w="1127160"/>
                <a:gridCol w="1012680"/>
                <a:gridCol w="1013040"/>
                <a:gridCol w="1011240"/>
                <a:gridCol w="101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s 6 and 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&amp;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2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8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6 by 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 (Eurostat’s wish-list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make adjustments to the ISCO-88 in order to adapt to changes in the occupational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make corrections to the structure and definitions and descriptions in order to improve the validity and the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overhaul is neither desirable nor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ISCO that could also serve unchanged for EU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objectives of the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al aim of Eurost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lude new job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 the reliability of the classific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k at the EU-LF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CO and skill lev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relative sizes of ISCO sub-major groups 1992-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1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347840"/>
          <a:ext cx="7772400" cy="45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47840"/>
                    <a:ext cx="777240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2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3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s 4 and 5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7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8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s 6 and 9, 1992=100, EU-15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28720" y="1432080"/>
          <a:ext cx="74865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432080"/>
                    <a:ext cx="74865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93840" y="58770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1992-94: EU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bjectives of the re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m of Euro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vised ISCO should supplant ISCO-88 (COM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jor differences of the two systems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guidelines for classification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 of enterprise vs number of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s in public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10 and 1120 merged, 24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s in the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bjectives of the re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vised ISCO should reflect developments in the occupational structure since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 occup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, communication and technolog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ing occup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ustrial sect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bjectives of the re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perational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earer guide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tit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er correspondence of the classification dimensions (skill levels, specialisation) to realit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k at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ISCED97 and ISCO-88 (COM) using the EU-LFS (EU-25) in spring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to find mismatch between skills and occu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be used the other way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validity of the ISCO-88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d persons by ISCED97 and ISCO88 (groups 1-5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-25 2004 sp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197000"/>
          <a:ext cx="7772400" cy="507528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,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5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0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d persons by ISCED97 and ISCO88 (groups 6-9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-25 2004 sp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1197000"/>
          <a:ext cx="7772400" cy="5073480"/>
        </p:xfrm>
        <a:graphic>
          <a:graphicData uri="http://schemas.openxmlformats.org/drawingml/2006/table">
            <a:tbl>
              <a:tblPr/>
              <a:tblGrid>
                <a:gridCol w="2297160"/>
                <a:gridCol w="996840"/>
                <a:gridCol w="895320"/>
                <a:gridCol w="895320"/>
                <a:gridCol w="897120"/>
                <a:gridCol w="895320"/>
                <a:gridCol w="895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,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8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,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8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,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2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ca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480" y="139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grou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197000"/>
          <a:ext cx="7772400" cy="5024520"/>
        </p:xfrm>
        <a:graphic>
          <a:graphicData uri="http://schemas.openxmlformats.org/drawingml/2006/table">
            <a:tbl>
              <a:tblPr/>
              <a:tblGrid>
                <a:gridCol w="2595600"/>
                <a:gridCol w="1127160"/>
                <a:gridCol w="1012680"/>
                <a:gridCol w="1013040"/>
                <a:gridCol w="1011240"/>
                <a:gridCol w="1012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ISCE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ISCED 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ISCED 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ISCE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ISCED 4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ISCED 4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ISCED 3a or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ISCED 3c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ISCED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ISCED 3c 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ISCE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ISCE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 No formal edu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1:53Z</dcterms:created>
  <dc:creator>Omar S Hardarson</dc:creator>
  <dc:description/>
  <dc:language>en-US</dc:language>
  <cp:lastModifiedBy>Ómar S Harðarson</cp:lastModifiedBy>
  <cp:lastPrinted>2002-11-11T13:55:00Z</cp:lastPrinted>
  <dcterms:modified xsi:type="dcterms:W3CDTF">2005-12-07T15:30:44Z</dcterms:modified>
  <cp:revision>18</cp:revision>
  <dc:subject/>
  <dc:title>The EU Labour Force Survey and indicators of quality in work</dc:title>
</cp:coreProperties>
</file>